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B21-9698-4CBF-B225-F4426481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23D-AC30-40FD-BEBB-8CF09843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A03-8C11-40E4-901A-7E3A2664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801-A359-4C87-B189-9D4AB5C8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3A2-4F7A-417B-88A4-1CFBC479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9C1-C316-4C7A-BE0C-F7B0CE7D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AA0-886F-4617-B83C-443A492C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97A-5347-4E51-A7B1-6629BD96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443-ECE2-4278-BD58-1D8766BA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086-5C10-4C20-A1AF-49BD2A6C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1DB-282B-44DD-A937-346C26E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AEC-9DB2-4052-83A3-2D3F38E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971E-D11F-4114-AB8F-9E93D690DB4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38280" y="2006640"/>
          <a:ext cx="3353040" cy="195588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" name="Group 1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45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12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178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21337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+5+4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048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196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105520" y="19922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14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215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1+4+1+4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9"/>
          <p:cNvSpPr/>
          <p:nvPr/>
        </p:nvSpPr>
        <p:spPr>
          <a:xfrm flipV="1">
            <a:off x="1905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7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236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105520" y="202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6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257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5105520" y="202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38088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6+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1"/>
          <p:cNvSpPr/>
          <p:nvPr/>
        </p:nvSpPr>
        <p:spPr>
          <a:xfrm flipV="1">
            <a:off x="1295280" y="36576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8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280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7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02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5105520" y="202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9907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18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25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9907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2"/>
          <p:cNvSpPr/>
          <p:nvPr/>
        </p:nvSpPr>
        <p:spPr>
          <a:xfrm>
            <a:off x="96840" y="533412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read off the digits according to the diagonal place value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19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49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0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9907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9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73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18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3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5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6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7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8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9907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4724280" y="487692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327 x 28 = 91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20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98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4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Line 17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9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0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1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2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5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388620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7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8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9"/>
          <p:cNvSpPr/>
          <p:nvPr/>
        </p:nvSpPr>
        <p:spPr>
          <a:xfrm>
            <a:off x="2743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5493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1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2"/>
          <p:cNvSpPr/>
          <p:nvPr/>
        </p:nvSpPr>
        <p:spPr>
          <a:xfrm>
            <a:off x="574920" y="4724280"/>
            <a:ext cx="67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alculate 327 x 28 by another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ee how your method is similar to this 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4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Line 17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8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1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2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388620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7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2743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5493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1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2"/>
          <p:cNvSpPr/>
          <p:nvPr/>
        </p:nvSpPr>
        <p:spPr>
          <a:xfrm>
            <a:off x="569160" y="472428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548640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4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Line 17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2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5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388620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7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2743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5493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2"/>
          <p:cNvSpPr/>
          <p:nvPr/>
        </p:nvSpPr>
        <p:spPr>
          <a:xfrm>
            <a:off x="569160" y="472428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548640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655308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4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Line 17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8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9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0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3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4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5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6"/>
          <p:cNvSpPr/>
          <p:nvPr/>
        </p:nvSpPr>
        <p:spPr>
          <a:xfrm>
            <a:off x="388620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27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28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9"/>
          <p:cNvSpPr/>
          <p:nvPr/>
        </p:nvSpPr>
        <p:spPr>
          <a:xfrm>
            <a:off x="2743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0"/>
          <p:cNvSpPr/>
          <p:nvPr/>
        </p:nvSpPr>
        <p:spPr>
          <a:xfrm>
            <a:off x="5493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2"/>
          <p:cNvSpPr/>
          <p:nvPr/>
        </p:nvSpPr>
        <p:spPr>
          <a:xfrm>
            <a:off x="569160" y="4724280"/>
            <a:ext cx="772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: see if you can find each of the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 parti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tice multiplication!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3"/>
          <p:cNvSpPr/>
          <p:nvPr/>
        </p:nvSpPr>
        <p:spPr>
          <a:xfrm>
            <a:off x="548640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4"/>
          <p:cNvSpPr/>
          <p:nvPr/>
        </p:nvSpPr>
        <p:spPr>
          <a:xfrm>
            <a:off x="655308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4495680" y="41911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7"/>
          <p:cNvSpPr/>
          <p:nvPr/>
        </p:nvSpPr>
        <p:spPr>
          <a:xfrm flipV="1">
            <a:off x="4267080" y="44953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4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161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3:30:20Z</dcterms:created>
  <dc:creator>lball</dc:creator>
  <dc:description/>
  <dc:language>en-US</dc:language>
  <cp:lastModifiedBy>Helen Trickey</cp:lastModifiedBy>
  <dcterms:modified xsi:type="dcterms:W3CDTF">2013-03-01T04:59:39Z</dcterms:modified>
  <cp:revision>318</cp:revision>
  <dc:subject/>
  <dc:title>485136 Learning Area: Mathematics 1</dc:title>
</cp:coreProperties>
</file>